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B15E-BB5E-4FBA-BD51-31701067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20EE-B47F-4FD7-B175-61AF86EBB83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D58D-596E-4D2D-B7CA-8EE220DAE2C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9706-619D-447A-BF82-E10E11E6BF47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1E11-CD7F-49CD-BC2D-7D5B9143B09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B1D9-6306-436B-ADA5-CB3A19D86F5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212E-3B47-4EA8-8EAC-AC92FF5D775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2512-83D6-49EE-9471-FD5ACAD74AF5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C77-31A4-4211-913A-69226A1342F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8A79-C1B8-440D-A92A-6B65DD5C6F9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267-DB63-47B4-B93A-D90A790D284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AA16-153C-44AB-8B74-C4AA4B2F4634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8732-55B8-4FF9-B8F0-256083F561E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9F2-EC51-4926-82EC-D42D66D5062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FC2D-1E34-46BA-82A5-4BADE531E0AC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A4DE-CD76-4C49-A28F-02F520B1C57F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7CD1-C60F-43B1-B76C-65F2C1B9BAD9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EA73-DC98-4F34-A60A-CAE3F8B0DD53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1B3C-6FFF-4CE0-AA7F-38A31BAA1D4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B785-B4CD-4176-B532-F49A23128F46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E800-49BB-41D0-8CB0-79305AB3AF51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CFA7-9B8F-44D8-9A65-D642BDDCB7BA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79FF-285A-47BB-A648-95109865A81D}" type="slidenum">
              <a:rPr b="0" lang="en-US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CFC-A2B5-477D-9DE9-C16E5CDD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5A2-78B3-41EC-BC5F-9A46B0A7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0E5-F6F4-49C4-9757-1797C5C2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252-409B-4523-93DD-49DB5074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7AD7-7029-4491-84FD-BE0D3F87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8C35-8E95-48FD-8205-0343CD9E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91F1-DC44-4EB1-B48A-4696237E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6832-7834-4418-8CBC-CD2B26DC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D122-7179-472F-821D-BE8CA1E2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38A2-6A4F-47D3-BF1D-FA280157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CB61-3970-4AE5-8AB3-4F3934DA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5AB-EBB5-49FB-B1A2-B98994B5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35A9-05F9-4633-9277-CAE4E28A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6627-A66B-40E2-9860-73465EA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D927-223A-4AD0-98B2-D2EE0D23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3E2C-6712-4FC4-8D04-8919984A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1796-5BB4-44AA-97BA-20360708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1F5-3301-4EA3-848E-F7E9AF96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D52C-F4C8-4A3C-B8E0-179E3E67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CC6-AD04-48A6-85DB-DF47B953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E22-3665-4A61-967A-35630675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BEE-327E-45B7-9152-9564BB5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071-DF9F-4D4A-BA01-9B48F036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3B7-CCBC-430A-891A-D2C0C18E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4C57-617C-4DF1-B277-37436E51C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B4E1-E555-4037-B456-6F6D2274EF86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Motivating Young Readers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in Your Classroom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(and Exploring Picture Books)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EDC423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r. Julie Coiro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llow choice in what to read and how to respond and with whom they interact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sk them about their likes and dislikes (especially about reading) **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odel excitement/passion - give a booktalk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each students HOW to choose boo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terdisciplinary connection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should you know about the differences in motivations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ANGER: When students are rewarded for completing tasks, intrinsic motivations decrease </a:t>
            </a: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(Cameron &amp; Pierce, 1994)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Decreases in engagement time and attitudes toward reading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ho were rewarded LESS during free time read MORE (they attributed the cause of their reading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internal facto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like interest &amp; curiosity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tudents who were rewarded MORE during free time read LESS (they attributed reading to </a:t>
            </a:r>
            <a:r>
              <a:rPr b="0" lang="en-US" sz="2400" spc="-1" strike="noStrike" u="sng">
                <a:solidFill>
                  <a:srgbClr val="330000"/>
                </a:solidFill>
                <a:uFillTx/>
                <a:latin typeface="Arial"/>
              </a:rPr>
              <a:t>external factors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like points, grades, &amp; stickers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should you care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insic motivations are imperative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lifelong, voluntary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insic motivations are vital to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higher-order strategy developmen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Leads to deeper meaning-mak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nal metacognitive monitoring, clarifying, and reflecting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Otherwise, you have “Fake” readers!  </a:t>
            </a: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(Kelly &amp; Clausen-Grace, 2008)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makes student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ant to read?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Worthy, 2002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</a:t>
            </a: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ngaging instru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odel everyday excitement about book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Reading for enjoyment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Choice and variet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in reading material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each students how to choose their own books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nterest Inventories (see examples in handouts)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Online Reading Locations to Motivate Young Readers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066320" y="419112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re’s TONS of informational text at a reading level kids can enjoy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icture 3"/>
          <p:cNvPicPr/>
          <p:nvPr/>
        </p:nvPicPr>
        <p:blipFill>
          <a:blip r:embed="rId1"/>
          <a:stretch/>
        </p:blipFill>
        <p:spPr>
          <a:xfrm>
            <a:off x="152280" y="611280"/>
            <a:ext cx="883944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4" name="Picture 4" descr="Picture 4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7" name="Picture 4" descr="Picture 5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30" name="Picture 1030" descr="Picture 8"/>
          <p:cNvPicPr/>
          <p:nvPr/>
        </p:nvPicPr>
        <p:blipFill>
          <a:blip r:embed="rId1"/>
          <a:stretch/>
        </p:blipFill>
        <p:spPr>
          <a:xfrm>
            <a:off x="123840" y="411120"/>
            <a:ext cx="88948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33" name="Picture 4" descr="Picture 9"/>
          <p:cNvPicPr/>
          <p:nvPr/>
        </p:nvPicPr>
        <p:blipFill>
          <a:blip r:embed="rId1"/>
          <a:stretch/>
        </p:blipFill>
        <p:spPr>
          <a:xfrm>
            <a:off x="152280" y="430200"/>
            <a:ext cx="883944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Compare and contrast intrinsic and extrinsic literacy motivations and their connection to classroom culture and literacy instruction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Identify several ways to learn more about your students’ literacy motivations in ways that can guide instruction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00"/>
                </a:solidFill>
                <a:latin typeface="Arial"/>
              </a:rPr>
              <a:t>Picture Book Festival! [Awareness] 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Setting up classroom routines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Chapter 5, p. 60-61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variety and choice; self-sele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 social intera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o points to “hold accountable”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 students select books with Booktalks and 5 finger tes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rategy conferences: (coaching, monitoring, and facilitating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ort response log (p. 72) - 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I’m wondering…I can see a clear picture of…I made a connection to…I was confused when…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asuring Young Children’s Reading Moti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did the authors of your two readings learn about literacy motivations?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Reading - Interest Inventories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see handout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Elementary Reading Attitude Surve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(McKenna &amp; Kear, 1990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Help plan classroom library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uage movement from beginning - middle - end of the school year (an increase of 5 or more points on subsections; 7-8 points on total score reflects growth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Measuring Young Children’s Reading Motivat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 to Read Profil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Gambrell et al, 1996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xamines self-concept for reading and value of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The Reader Self-Perception Scale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(Henk &amp; Melnick, 1995)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Devise ways to enhance children’s self-esteem in reading and to increase their motivation to read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oday’s Learning Objective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are and contrast intrinsic and extrinsic literacy motivations and their connection to classroom culture and literacy instruction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several ways to learn more about your students’ literacy motivations in ways that can guide instru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GENRE: Chapter 3 - Picture Book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RATEGY: Chapter 5 - Predict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Next week - Exploring Picture Books and Embedded Strategy Instru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ovide lots of time for indep. Read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 readers sort out what types of books they like and label them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iety: old/new, different format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nces to share with their pe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re read-alou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how enthusias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lan for activities that go along with book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xtrinsic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ook logs with different genr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ccelerated Reader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literacy motiv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00"/>
                </a:solidFill>
                <a:latin typeface="Arial"/>
              </a:rPr>
              <a:t>The reasons, purposes, and goals for reading and writing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They are multidimensional (many levels and layers) and diverse (many reasons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you like to read?  Write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re you good at reading? Writing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 you read? What do you write?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00"/>
                </a:solidFill>
                <a:latin typeface="Arial"/>
              </a:rPr>
              <a:t>Why do you read? Why do you write?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ypes of motivation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s that are internal to the learner and guided by personal interests and private experience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motivations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Goals that originate outside the learner (often guided by parents and/or teachers) - guided by points, stars, external reward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609480" y="4114800"/>
            <a:ext cx="7620120" cy="2064600"/>
          </a:xfrm>
          <a:prstGeom prst="rect">
            <a:avLst/>
          </a:prstGeom>
          <a:solidFill>
            <a:srgbClr val="ffdc4c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EX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9480" y="2093760"/>
            <a:ext cx="7620120" cy="2064600"/>
          </a:xfrm>
          <a:prstGeom prst="rect">
            <a:avLst/>
          </a:prstGeom>
          <a:solidFill>
            <a:srgbClr val="009999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INTRINSIC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Eight distinct motivations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for literacy </a:t>
            </a:r>
            <a:r>
              <a:rPr b="0" lang="en-US" sz="3200" spc="-1" strike="noStrike">
                <a:solidFill>
                  <a:srgbClr val="320000"/>
                </a:solidFill>
                <a:latin typeface="Arial"/>
              </a:rPr>
              <a:t>(Sweet &amp; Guthrie, 1996)</a:t>
            </a:r>
            <a:endParaRPr b="0" lang="en-US" sz="32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volvement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uriosity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lleng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liance motiv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ork Avoidance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Group Activi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Arial"/>
              </a:rPr>
              <a:t>Developing Motivated, Lifelong Readers In Your Classroom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ow can teachers help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5 minutes in small group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15 minutes as a whole group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o certain amount = prize!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uild on their interests with similar genr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acceptance;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park interest with ANY topic!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ocial interaction – get involved with others who like reading  - they learn through model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You get to share what you read or write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Vary the group size – large or smal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</a:t>
            </a:r>
            <a:br>
              <a:rPr sz="4400"/>
            </a:b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trinsic Motivation?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elp set personal goal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aired reading – peer reading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Keep modeling – they should keep doing it!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read-alouds with harder books – and easier books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_x0017_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can we do to foster External Motivation?</a:t>
            </a:r>
            <a:r>
              <a:rPr b="0" lang="en-US" sz="4400" spc="-1" strike="noStrike">
                <a:solidFill>
                  <a:srgbClr val="320000"/>
                </a:solidFill>
                <a:latin typeface="ヒラギノ角ゴ Pro W3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ole play /drama to spark students’ interes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Display books - talk about storie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licit a personal response (alternative to avoid writing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 up a reward system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t up a fun place to read (comfortable)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Use a candy drawer after explaining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eep a reading log - pages read, short summary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mpetition/reward/punishment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5:21:29Z</dcterms:created>
  <dc:creator>Julie Coiro</dc:creator>
  <dc:description/>
  <dc:language>en-US</dc:language>
  <cp:lastModifiedBy>Julie Coiro</cp:lastModifiedBy>
  <dcterms:modified xsi:type="dcterms:W3CDTF">2009-09-24T16:20:29Z</dcterms:modified>
  <cp:revision>117</cp:revision>
  <dc:subject/>
  <dc:title>Metacognitive Strategy Instruction to Enhance Reading Comprehension</dc:title>
</cp:coreProperties>
</file>